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D78-D4B4-430A-94EC-2424E453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64E-4ED5-46DC-B416-096D09C7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419-54E3-46E1-AA09-AB791731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2093-17FD-4848-96CD-A93650AA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2A4-0FB9-415A-BDD6-A847FB42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80F-9FF2-4FA8-9787-4C288515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707-6157-42C4-B789-DE13A66A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689-780E-4717-B3CE-59320372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157-CB14-4459-8304-95C8DEE0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0B9-68D2-45D3-9348-1F727B18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325-086C-437B-9BC4-86CCC239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450-FD01-4987-A7C2-84AF1E8A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567E-E59A-4999-B80F-77F858C13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alter-fendt.de/ph11e/resultant.htm" TargetMode="External"/><Relationship Id="rId2" Type="http://schemas.openxmlformats.org/officeDocument/2006/relationships/hyperlink" Target="http://www.walter-fendt.de/ph11e/resultant.htm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alter-fendt.de/ph11e/resultant.htm" TargetMode="External"/><Relationship Id="rId2" Type="http://schemas.openxmlformats.org/officeDocument/2006/relationships/hyperlink" Target="http://www.walter-fendt.de/ph11e/resultant.htm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hyperphysics.phy-astr.gsu.edu/hbase/lsin.html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fu.ca/phys/100/lectures/OlManRiver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304920"/>
            <a:ext cx="830592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troduction to Vect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715000" y="4572000"/>
            <a:ext cx="2724120" cy="19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ill Lucke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aufort Academ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920" y="3428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fact, you will be taking one quiz in which you will have only a protractor and one quiz in which you will have only a calculator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228600"/>
            <a:ext cx="8610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o you need to know both methods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05120" y="2057400"/>
            <a:ext cx="4800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bsolutely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a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is the “net” direction, or force, or accelera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tract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draw a line going in the direction stated.  The LENGTH of the line indicates the MAGNITUDE of the direction, forc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DIRECTION of the vector is in the stated direction and is carefully measured using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tr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228600"/>
            <a:ext cx="8305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raphical Method of Finding Resultant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lane’s engine pulls the plan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00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the north. There is a strong wind pushing the plan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 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’s solve this problem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graphicall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457200"/>
            <a:ext cx="6553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blem 1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, carefully draw an arrow pointing north that has a magnitude of 700 uni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43400" y="32004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38862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, draw an arrow pointing west that has a magnitude of 200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352680" y="32767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1008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 you have to draw the Resultant, which shows th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net” magnit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429000" y="3276360"/>
            <a:ext cx="914400" cy="3276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457200"/>
            <a:ext cx="7924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ere is the vector drawing…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52578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tice that we have used a “tip-to-tail method” to draw vectors. Two tails exist only where the resultant touches the “first” v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necessary to draw vectors using the Tip-To-Tail Method.  That means that the tip of one vector </a:t>
            </a:r>
            <a:r>
              <a:rPr b="1" i="1" lang="en-US" sz="3200" spc="-1" strike="noStrike">
                <a:solidFill>
                  <a:srgbClr val="ff6699"/>
                </a:solidFill>
                <a:latin typeface="Arial"/>
              </a:rPr>
              <a:t>can only touch the tail of a second vector in the final vector diagra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e how this is done at this site, where the resultant is shown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alter-fendt.de/ph11e/resultant.htm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19320" y="304920"/>
            <a:ext cx="5943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ip-To-Tail Metho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 that you know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gnitud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resultant, you must report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rectio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 the resultant.  (Remember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at’s what makes it a vector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t your protractor’s “origin” at the intersectio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etween the original vector and the resulta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angle and state the angle as, ie, “22 degrees N of 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19320" y="457200"/>
            <a:ext cx="647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t what angle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3276720"/>
            <a:ext cx="4038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t’s say you want to measure the angle between these two arro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267080" y="2819520"/>
          <a:ext cx="403884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819520"/>
                    <a:ext cx="403884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V="1">
            <a:off x="6248520" y="144756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248520" y="2438280"/>
            <a:ext cx="182880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4864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You could subtract 90.0 from 127.5 to get 37.5 degrees. You would record this as 37.5 degrees East of No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228600"/>
            <a:ext cx="4952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a Protractor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 Measure the Angl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2286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You will probably note that these can’t officially be vectors since they’re not drawn in a tip-to-tail fash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648320" y="152280"/>
          <a:ext cx="2838240" cy="44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280"/>
                    <a:ext cx="283824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523880" y="36576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move the arrows. How would you measure this 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1500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ou could subtract 0.0 from 78.5 to get 78.5 degrees. You could state that this is 78.5 degrees West of So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22860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114440" y="2286000"/>
            <a:ext cx="2971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43800" y="45720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The ends of each arrow must rest in the “origin” of the protractor (the hole in the plastic) and one of the vectors must align with the marked black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457200"/>
            <a:ext cx="3276360" cy="26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osition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tract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’s take that first example of the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0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splacement 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 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splacement 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8001000" y="3352320"/>
            <a:ext cx="0" cy="297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010280" y="34290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352680"/>
            <a:ext cx="5410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is makes a Right Triangle, we can use the Pythagorean Theorem to solve for the result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541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refore,            70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+ 20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 c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71600" y="22860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lving Vectors Analytical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60958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d    c = 72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010280" y="3429000"/>
            <a:ext cx="990720" cy="2819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ector diagram can be drawn for displacement in m, for velocity in m/s, for acceleration in m/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r for force in N but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each vector diagram’s sides have consistent uni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04920"/>
            <a:ext cx="7391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mportant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8120" y="1752480"/>
          <a:ext cx="594360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752480"/>
                    <a:ext cx="59436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alar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a quantity with magnitude only Speed:  “55 miles per hou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erature: “22 degrees Celsiu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ect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a quantity with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agnitude and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locity: “25 m/s Northw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leration: “4.8 m/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 90 degre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304920"/>
            <a:ext cx="685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finitions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ain, since it’s a right triangle, we can use Tr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we know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p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j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and we know that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an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opp / adj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   calculate this, to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22860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inding the Angle Analytical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questions 5-8 on the “Vectors I” handout, 2 vectors act on a single point, like th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895480" y="3962520"/>
            <a:ext cx="144792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343400" y="3733560"/>
            <a:ext cx="533520" cy="243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304920"/>
            <a:ext cx="7925040" cy="13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rces Acting on the Same Poi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must remember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ip-to-tail meth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o you will have to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lide one vector to the end of anoth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s shown on the site you saw earlier.  Remember?  Return to that site if needed.  Here’s the link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alter-fendt.de/ph11e/resultant.htm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43000" y="228600"/>
            <a:ext cx="6172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INT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 Must Pick One Vector to Slide Onto the End of the Other Vec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9810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1185840"/>
            <a:ext cx="86868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’s say you have one vector that is 7.8 m , one that is 2.3 m and you have to find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esultant.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590920"/>
            <a:ext cx="2286000" cy="2895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934320" y="5486400"/>
            <a:ext cx="457200" cy="9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2590920"/>
            <a:ext cx="1828800" cy="3886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228600"/>
            <a:ext cx="8458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f it’s not a Right Triangle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240" y="152352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you know the sides (7.8 and 2.3) and Angle C (1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then you must us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2590920"/>
            <a:ext cx="2286000" cy="2895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934320" y="5486400"/>
            <a:ext cx="457200" cy="9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2590920"/>
            <a:ext cx="1828800" cy="3886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228600"/>
            <a:ext cx="8458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f it’s not a Right Triangle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3581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.8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3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62485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yperphysics.phy-astr.gsu.edu/hbase/ls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6248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5334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3200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228600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ere are the sides (lower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41911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Here are the angles (upper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800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bbe0e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= a</a:t>
            </a:r>
            <a:r>
              <a:rPr b="1" lang="en-US" sz="2800" spc="-1" strike="noStrike" baseline="30000">
                <a:solidFill>
                  <a:srgbClr val="bbe0e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+ b</a:t>
            </a:r>
            <a:r>
              <a:rPr b="1" lang="en-US" sz="2800" spc="-1" strike="noStrike" baseline="30000">
                <a:solidFill>
                  <a:srgbClr val="bbe0e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– 2ab  co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57150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this website to do a quick calc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5257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110</a:t>
            </a:r>
            <a:r>
              <a:rPr b="1" lang="en-US" sz="1800" spc="-1" strike="noStrike" baseline="30000">
                <a:solidFill>
                  <a:srgbClr val="bbe0e3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3886200"/>
            <a:ext cx="38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w of Cosin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the rest of the class time to work in small, quiet groups to draw and calculate the resulta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onent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one of the vectors given in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a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the “net” 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urrent Vecto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vectors acting on the same point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quilibran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vectors that produce equilibrium; it is equal in magnitude and opposite in direction to the resul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304920"/>
            <a:ext cx="685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finitions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amples: Let’s say you walk 10 m northeast and turn and walk 9 m southe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304920"/>
            <a:ext cx="685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finitions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800600" y="2286000"/>
            <a:ext cx="152388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2362320"/>
            <a:ext cx="144792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800600" y="3504960"/>
            <a:ext cx="297180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blem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Hurricane Frances is traveling at 8 mph West.  A weather front approaches Frances at 20 mph Northeast. Find the resultant direction of Hurricane Frances.  (“ne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OK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o it’s more complicated than tha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a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66680" y="152280"/>
            <a:ext cx="6782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fulness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fu.ca/phys/100/lectures/OlManRiver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Make sure the volume is turned UP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atch the video.  What does this video show?  (Watch it more than once if necess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38280" y="380880"/>
            <a:ext cx="5334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l’ Man Riv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t the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iv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was the paper being pulled at a constant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t if the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oa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left perpendicularly to the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ho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it would end up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ownstrea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t the instructor must have calculated the proper angle needed based on the rate of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low of the riv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before he released the second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oa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30492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d you notice…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is vital information for pilots, ship navigators, athl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quarterback uses vectors to throw a ball to a receiver that is running to make a touchdown (but he probably doesn’t think of it as a ve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 some other examples in sports or other aspects of you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228600"/>
            <a:ext cx="8534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t’s what vectors help us d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aphical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ctors are drawn using a ruler (measurements are done to scale) and a protractor (direction is noted as, for example, 20 degrees north of 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alytical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ig is used; right triangles use the Pythagorean Theorem 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b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and SOH CAH TOA. Triangles that are not right use LAW OF SINES or LAW OF COS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304920"/>
            <a:ext cx="85438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re are two ways to solve vector problems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23:00Z</dcterms:created>
  <dc:creator>andreskim</dc:creator>
  <dc:description/>
  <dc:language>en-US</dc:language>
  <cp:lastModifiedBy>jluckey</cp:lastModifiedBy>
  <dcterms:modified xsi:type="dcterms:W3CDTF">2009-10-13T16:36:48Z</dcterms:modified>
  <cp:revision>85</cp:revision>
  <dc:subject/>
  <dc:title>Introduction to Vectors</dc:title>
</cp:coreProperties>
</file>